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74E-E652-4158-AEE8-9BF3593E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89C-075E-4BE6-9D54-CD575E38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944-D2E0-4F71-9F7C-3423634E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9F5-149F-469B-B596-637163EB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5AA-6DCF-4D8E-B6CB-55066DDB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96D-0339-4A42-9E7F-C7C98EA3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C20-45D6-42CD-A6E5-3456DE1B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2D6-910E-41FB-A568-8236D246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558-F8E9-4908-8775-A7871AD7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4FC-915E-4CB4-BB97-F5582373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C43-5B7F-4D4E-9D4E-F8BEB547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676-8F83-47A6-87DD-17DD3073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5BFA-06DD-4383-B737-0A607F630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Graphs U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-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-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+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the slope and y-intercep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600200"/>
            <a:ext cx="7696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6x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3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x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 + 4y – 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523880" y="5562720"/>
                <a:ext cx="946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equ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-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½ x 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6765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62520" y="1600200"/>
          <a:ext cx="4723920" cy="4857840"/>
        </p:xfrm>
        <a:graphic>
          <a:graphicData uri="http://schemas.openxmlformats.org/drawingml/2006/table">
            <a:tbl>
              <a:tblPr/>
              <a:tblGrid>
                <a:gridCol w="235800"/>
                <a:gridCol w="235800"/>
                <a:gridCol w="237240"/>
                <a:gridCol w="236160"/>
                <a:gridCol w="235800"/>
                <a:gridCol w="235800"/>
                <a:gridCol w="235800"/>
                <a:gridCol w="237960"/>
                <a:gridCol w="235800"/>
                <a:gridCol w="235800"/>
                <a:gridCol w="235800"/>
                <a:gridCol w="235800"/>
                <a:gridCol w="237600"/>
                <a:gridCol w="235800"/>
                <a:gridCol w="235800"/>
                <a:gridCol w="235800"/>
                <a:gridCol w="235800"/>
                <a:gridCol w="237960"/>
                <a:gridCol w="235800"/>
                <a:gridCol w="235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733920" y="40384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144756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in slope-intercept form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grap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 – 6y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3y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+ 3y – 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– 0.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8578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038480" y="16765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40384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24480" y="144756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parallel lin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Parallel 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(//) lines have the =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19320" y="23623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716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286000"/>
            <a:ext cx="914400" cy="129528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914400" cy="129528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209680"/>
            <a:ext cx="0" cy="1295640"/>
          </a:xfrm>
          <a:prstGeom prst="line">
            <a:avLst/>
          </a:prstGeom>
          <a:ln w="93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209680"/>
            <a:ext cx="0" cy="1295640"/>
          </a:xfrm>
          <a:prstGeom prst="line">
            <a:avLst/>
          </a:prstGeom>
          <a:ln w="93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72480" y="2781360"/>
            <a:ext cx="1295280" cy="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2933640"/>
            <a:ext cx="1295640" cy="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de whether the graphs of the two equations are parallel li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x +2,   y + 3x =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12 = y, y = 10 +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+2x = 6x + 1, 9x – 3y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slope &amp;y-interc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6x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 + 4y – 2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219320" y="3048120"/>
                <a:ext cx="641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2767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-x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3x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x +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/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.  y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1066680"/>
            <a:ext cx="3352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quation in slope-intercept form.  Then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 – 6y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y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3y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– 0.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.2x + 3y – 9 =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410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whether the graphs of the two equations are parallel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– 12 = y, y = 10 +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  3y – 4x = 3, y = -4x +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4:53:33Z</dcterms:created>
  <dc:creator>cdolezal</dc:creator>
  <dc:description/>
  <dc:language>en-US</dc:language>
  <cp:lastModifiedBy>cdolezal</cp:lastModifiedBy>
  <dcterms:modified xsi:type="dcterms:W3CDTF">2008-11-06T17:48:35Z</dcterms:modified>
  <cp:revision>8</cp:revision>
  <dc:subject/>
  <dc:title>Slide 1</dc:title>
</cp:coreProperties>
</file>